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0B2-5151-4E04-A053-A3A847AA7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495-9D87-4484-999C-E7880F318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A09D-E6BD-46E7-8E51-C5A1B9D4A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A95B-744F-4CCB-8854-D4DB5C259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A351-22BA-425D-9267-E517E125D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101-B628-4BCD-8F3A-5874752E6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41E-34B7-496E-B5D4-207706FDB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0A2-032D-45F5-A5B1-CF5AE10A3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6C5-BEEF-4840-99C6-69EA3906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41C-05C6-4105-A41E-54F74BBC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756-070F-4DE4-A0D2-70D0FB1C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3E4-1874-44AE-BA93-B0990A01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75F0-C3A3-4456-B399-EA5AAA64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5217-E538-49D5-B823-70018226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19D1-4682-4DE1-8976-94EA1A3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1F2D-3930-4680-A529-E2BE5B1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DBB-92FD-4488-AA0C-4E38A47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5EF0-2904-4803-800C-3F7390C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939-49C8-4EE2-9E83-22F9464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277-ED8D-45E3-B9CD-2D691BF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4034-7D9A-49A3-ABEF-E065658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6DAF-3CE0-4576-86F1-CF531FA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9958-D2CF-40A0-8CE8-4AACF55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D4A6-8E8C-43AA-8768-6C107CB0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344-52C7-41DA-9727-FB855487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AA1A-911C-4325-85A7-AF9F8B5A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CD1A-6085-4156-A34E-D42C2F8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F003-DCEE-436A-A365-485046C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E0F0-1CAE-453B-87E7-9769D301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ED90-6CE9-4924-97D0-1247C68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02B-BA0E-4080-9A78-9FA7309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CAE3-7932-4223-96E2-B33F2C40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F3BF-1F10-4723-A6A2-C9FA7AB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2AE0-A812-4539-8829-FFD5245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2B47-CE7F-4BD1-A707-B50A407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65EC-1878-4152-B464-3143CD4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FBD6-E6B6-4CC0-B5FC-AE061A2E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5DDF-DBB1-40BA-A1A8-19CE014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4BEE-414E-41C3-BFE6-8E7AA40A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0B51-15C0-4673-9C92-C422DDF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5649-D52A-4A9F-A2A0-BCE83F3C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0BC-4C6F-4ABC-8C46-9C549F3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4DB3-B0CA-450E-A5D7-3049D84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4358-8F87-4B89-8FE8-686D40C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73C3-0380-4835-B930-0ADD795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BDD0-9146-4105-9AC7-0879248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E337-2160-4BDD-B13C-0312B08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47C6-ACCD-4214-84E2-5345C49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7748-34FA-4E27-80E4-BA15757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8A8E-2F8E-434F-A48B-B93E0687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A0E0-886D-48D7-BB91-8C8F4D5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48673-EB3C-4C2C-BFE9-3D29DDD8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E3D-5FF1-4F02-81AB-6E7AA9C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055A6-F836-4A49-B042-5FF2ED03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172C-C557-4B1C-AAAB-6F34834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CC7C-E3CA-49E6-AC39-D408237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65718-A6D9-4E6D-995C-C8F2E6D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A86E-CD5D-42B8-A3A0-F2B1A78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1829-E55E-48E4-A161-90FABFF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3219-51E5-446D-96FB-3A023FB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83AE-001F-4F01-9C60-5D7B24E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81AE-D253-465D-9EB7-A525C3A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3960-82F9-42E6-BF02-031C91BB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E91-9DC1-4B75-B990-7ABFC5E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AD58-6D63-4BE0-BA43-7B1C2A9A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430-F775-42FE-A42A-9FC204C8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3B3-E452-47CA-9723-AAD95C9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CD0-3D21-4882-8EFF-49CA6A2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6DF3-DCD8-4BB5-9846-8771F6EFF51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55D-75ED-4FA7-BFD0-F159CEFE164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943-FEE8-4198-A26C-9846CD929BD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067B-3800-4156-B8AD-7906FFF224D5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73C-676A-4A20-8D37-49522600A2C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3221 INTRO TO LIT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f. Ev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457200" y="380880"/>
            <a:ext cx="69343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stories that ar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ological order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also contai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hint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lue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bout what will happen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oreshadowing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uses action or mood to prepare the reader for something that will happen later in the work – many stories prepare readers or listeners for a death or something tragic or horrific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the foreshadow is subtle and easily missed; other writers use the element of surprise by misleading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457200" y="380880"/>
            <a:ext cx="693432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st point of action; the point of no retur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traditional tales it is the final moment of confrontation or strug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swers: what happens to the protagonist (win or lo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stories end just at or after the clima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78640" cy="1420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457200" y="380880"/>
            <a:ext cx="69343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the loose ends are wrapp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lains the consequences of the cli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swers the question: what finally happened to the protagon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– there is not resolution, or minimal wrapping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228600" y="91440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arrative – is what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lot: the relation of those events to each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ther and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M. For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ulated the difference most memorably. He observed that if we write “The king died, and the queen died,” we ha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f we write, instead, “The king died, and the queen died of grief,” then we ha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s of the Nov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19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28600" y="617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dapted from: “Plot” by Robert Montenegro at http://litera1no4.tripod.com/plot_fram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7486560" cy="11462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228600" y="121932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1f34"/>
                </a:solidFill>
                <a:latin typeface="Trebuchet MS"/>
              </a:rPr>
              <a:t>Plo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tablishes a link of cause between events.  And this, the making of connections, or designs, is the essence of storytel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rrative is simply a record of what happened. For narrative to become a plot it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eveal its meaning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human te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vents only become interesting, which is to s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o our understanding of life, when we see their effect upon people, or, in the case of fiction, upon charac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-12600" y="152280"/>
            <a:ext cx="7486560" cy="1073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210960" y="990720"/>
            <a:ext cx="7467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ose plot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he writer of fiction may not explain the connections between events and characters.  Sometimes the reader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inf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hat that connection is: the reader must “figure it out.”  Some writers want the readers to work at it – where the reader has to assemble the plot him or he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ght plot: traditional stories are usually easy to follow the events – they have a very tight plot line with no gaps so a reader or listener does not need to guess the connections between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52280" y="914400"/>
            <a:ext cx="781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 plot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torylin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usually involves conflict and follows a particular patter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Expositio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here action or conflict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Rising action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vents that develop the confl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point of greatest emotional 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Resolu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enoueme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where loose ends are wrapp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Some works do not follow this patter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37960" y="139680"/>
            <a:ext cx="7729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7937640" cy="1012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76320" y="1542960"/>
            <a:ext cx="791028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 rot="20395800">
            <a:off x="2239560" y="2222280"/>
            <a:ext cx="209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76320" y="49528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685800" y="4419720"/>
            <a:ext cx="13716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410080" y="1905120"/>
            <a:ext cx="13716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705720" y="3581280"/>
            <a:ext cx="13716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0" y="561960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609480" y="43624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505320" y="1542960"/>
            <a:ext cx="12189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5483160" y="1886040"/>
            <a:ext cx="17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 rot="3172800">
            <a:off x="6361200" y="3079800"/>
            <a:ext cx="17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7010280" y="451476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1534680" y="1001880"/>
            <a:ext cx="52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Freytag’s Pyram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ustav Freytag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amatic Techniqu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54080" y="762120"/>
            <a:ext cx="784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main characte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pro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 the story is about is introduced – sometimes the antagonis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etting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re the action takes place as well as the ti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tension or proble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the struggle within the story begins or is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54080" y="762120"/>
            <a:ext cx="822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tension or proble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is developed through crises or confron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may be struggling against 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another character (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tagoni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thout a conflict, there is no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28600" y="380880"/>
            <a:ext cx="792468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stories tol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hronological order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time order), others may switch back and forward in time. When a story starts  in the middle of an action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in medias 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lashback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 events that happened earlier than when the story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lashforwar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events that happen much later than the main time frame; often used at end of traditional story to explain what happens to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04:45Z</dcterms:created>
  <dc:creator>Petra</dc:creator>
  <dc:description/>
  <dc:language>en-US</dc:language>
  <cp:lastModifiedBy>Sally Everson</cp:lastModifiedBy>
  <dcterms:modified xsi:type="dcterms:W3CDTF">2011-06-13T00:29:15Z</dcterms:modified>
  <cp:revision>25</cp:revision>
  <dc:subject/>
  <dc:title>Literary terms &amp; devices</dc:title>
</cp:coreProperties>
</file>